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2D8F-4E2A-4A24-9B9F-BB8484865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1A45-0AC4-4361-8CC3-B52FCD183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5639-4C8F-4425-8188-98B61D306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B828-469D-4C43-A23B-91B20B34F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7967-C4E0-4476-8985-17F7FF7B6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24AA-37AA-49A8-AB5A-74A05C7D0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7C58-B54A-4F65-9F9D-F4BE34F98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AD3F-FB93-4A20-80FE-1F2869048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9308-25E3-4F10-9506-91D1CA69C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76594-14FE-40D8-9377-C2BD4770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29767-E5E3-42AD-AD4E-E2D9A563D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149F-5D4A-4D12-8BFB-E4D5E873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8903B-CF08-46D2-ABEC-7AEC409819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840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53EBCA0-0ECF-4C7B-84E7-CA0F2783586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2"/>
          <p:cNvSpPr/>
          <p:nvPr/>
        </p:nvSpPr>
        <p:spPr>
          <a:xfrm>
            <a:off x="3240" y="236700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Capacities at Points of Ent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2060"/>
                </a:solidFill>
                <a:latin typeface="Arial"/>
              </a:rPr>
              <a:t>Process of screening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Referral to medical health authoriti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f public health official decision is to refer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ze transport to medical facility and notify public health author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ce the traveler referred on travel restriction list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2060"/>
                </a:solidFill>
                <a:latin typeface="Arial"/>
              </a:rPr>
              <a:t>Exit screening process should be accompanied by an extensive public health communication campaign to educate on the iss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creening for EVD at point of Entr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8360" y="1413000"/>
            <a:ext cx="82296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Upon arrival from EVD affected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arrivals from EVD affected countries to provide contact information and physical address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b0f0"/>
                </a:solidFill>
                <a:latin typeface="Arial"/>
              </a:rPr>
              <a:t>Temperature screening of travelers from EVD affected countries ( optional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alth officials to provide information on EVD and Emergency contact numbers and advise on self- monitoring for signs or symptoms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3. Tools used for scre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324000" y="17827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creening form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Infra-red thermome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nd he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dy sca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SOPs and flowcha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572000" y="2071800"/>
            <a:ext cx="4361040" cy="26845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68000" y="1413000"/>
            <a:ext cx="8218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Others supplies: 9 PPE full sets at each PoE Medical equipment to survey ca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Calibri"/>
              </a:rPr>
              <a:t>3 Infrared Hand held Thermometers, 1 Scanner, 2 Observation roo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2 Health facilities and supplies for safe isolation and observation of suspect cases if possible separation room, if not, a separated are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  <a:ea typeface="Calibri"/>
              </a:rPr>
              <a:t>Depending on the geographical location, 1 Ambulance at Po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Objective 4. Facilities, Equipment and Suppl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Arial"/>
              </a:rPr>
              <a:t>Key messag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68360" y="1484280"/>
            <a:ext cx="822960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re should be no general ban on international travel or trade to and from the affected countri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States should provide travellers to Ebola affected and at-risk areas with relevant information on risk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tes should be prepared to detect, investigate, and manage Ebola cases and have the capacity to manage travelers originating from known Ebola-infected areas who arrive at PoE with unexplained febrile ill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b0f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b0f0"/>
                </a:solidFill>
                <a:latin typeface="Arial"/>
              </a:rPr>
              <a:t>The general public should be provided with accurate and relevant information on the Ebola outbreak and measures to reduce the risk of expos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b0f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5788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 and additional guidelines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452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it screening Ebola Guidance Package- WHO, Sept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ravel and transport risk assessment: Interim guidance for public health authorities and the transport s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O Interim Guidance for Ebola Event Management at Points of Entry, Sept 20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General objectiv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68360" y="1844280"/>
            <a:ext cx="8229600" cy="187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s presentation describes key elements for conducting screening of travellers for EVD at points of ent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060"/>
                </a:solidFill>
                <a:latin typeface="Arial"/>
              </a:rPr>
              <a:t>Learning objectiv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68360" y="17002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lain the purpose of screening travelers for EVD at Points of Entry (Po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2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be the processes required for screening for EVD at PO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3: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tools used for screening at the points of ent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2060"/>
                </a:solidFill>
                <a:latin typeface="Arial"/>
              </a:rPr>
              <a:t>Objective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fy the facilities, SOPs, equipment, and supplies needed and at the points of e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1: Purpose of screening for EVD at Po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196640"/>
            <a:ext cx="8229600" cy="38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ny person with an illness consistent with (Ebola) should not be allowed to travel unless the travel is part of an appropriate medical evacuation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Dr Margaret Chan, WHO Director-General,8 Aug 2014, Gene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Purpose of screening 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30824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2060"/>
                </a:solidFill>
                <a:latin typeface="Arial"/>
              </a:rPr>
              <a:t>Public Health Emergency (PHE) plans and SOPS should be in place at designated Points of Entry (PoEs). The aim is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 early detection of potentially infected persons, isolate and mange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mplement WHO recommendations related to control and prevention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vent the international spread of the disease while allowing PoE authorities to avoid unnecessary restrictions and delay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otential points of public health hazard  detection &amp; notif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324000" y="2492280"/>
            <a:ext cx="8524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50752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Objective 2: 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74760" y="12366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s with Ebola transmission should conduct exit screening  for all persons at international airports, seaports and major land crossings for unexplained febrile illness consistent with potential Ebola infe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ss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creening to be at the first security check before check in counter for air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Minimum requirements 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questionna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temperature measurement t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febrile, An assessment of the risk that fever is caused by EV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2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2352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Primary screening to identify travelers for exposure risk and signs of illness with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ravelers requested to fill in the travel health questionnaire to detect exposure r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ined staff working at PoE to observe travelers and detect signs and symptoms of disea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mperature screening of all travel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If a traveler has fever, or exposure risk he/she should for secondary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Process of screening :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Exit screening (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2060"/>
                </a:solidFill>
                <a:latin typeface="Arial"/>
              </a:rPr>
              <a:t>Secondary screening to further assess the risk of exposure/ infection of travelers  by trained public health offic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ople identified with suspected EVD infections /exposure are evaluated for signs and symptoms by trained public health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blic health staff will conduct a public health interview  more in-depth questionnaire and repeat temperature scree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2060"/>
                </a:solidFill>
                <a:latin typeface="Arial"/>
              </a:rPr>
              <a:t>Based on the secondary screening, public health officer may allow the travel or refer the traveler to public health or medical author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31:07Z</dcterms:modified>
  <cp:revision>334</cp:revision>
  <dc:subject/>
  <dc:title>DPC Training and Technical Update</dc:title>
</cp:coreProperties>
</file>